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D770-B994-48EB-B06C-D35B460A5E9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C79E-96D8-4B02-99ED-3B7A6D8F8930}" type="slidenum">
              <a:rPr b="0" lang="it-IT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3" name="Rectangle 16"/>
          <p:cNvSpPr/>
          <p:nvPr/>
        </p:nvSpPr>
        <p:spPr>
          <a:xfrm>
            <a:off x="3846600" y="942804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EEBEC103-79EC-47C2-8AAD-E843CA622FD0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4" name="Text Box 1"/>
          <p:cNvSpPr/>
          <p:nvPr/>
        </p:nvSpPr>
        <p:spPr>
          <a:xfrm>
            <a:off x="3846600" y="9428040"/>
            <a:ext cx="2943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2825D20E-3A7D-442E-9197-9784D5707873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993600" y="754200"/>
            <a:ext cx="48088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2FBF-6B9F-403F-94C8-D9A02E8324B1}" type="slidenum">
              <a:rPr b="0" lang="it-IT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3846600" y="942804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5DE4F8AA-AB0B-4508-80D4-67CFA75E202B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3846600" y="9428040"/>
            <a:ext cx="2943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858290D5-4BAB-4D18-9832-1B45F75CFC72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993600" y="754200"/>
            <a:ext cx="480564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0F23-FD55-47A6-9022-DC52BC7B9BB3}" type="slidenum">
              <a:rPr b="0" lang="it-IT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3" name="Rectangle 16"/>
          <p:cNvSpPr/>
          <p:nvPr/>
        </p:nvSpPr>
        <p:spPr>
          <a:xfrm>
            <a:off x="3846600" y="942804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AF3C1B79-F735-4176-947E-EB1182E4CAEB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4" name="Text Box 1"/>
          <p:cNvSpPr/>
          <p:nvPr/>
        </p:nvSpPr>
        <p:spPr>
          <a:xfrm>
            <a:off x="3846600" y="9428040"/>
            <a:ext cx="2943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632EE0D2-B944-438C-8979-1CE6AD93E280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993600" y="754200"/>
            <a:ext cx="480564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8645-BCB7-46AA-900D-C5DC8F31646E}" type="slidenum">
              <a:rPr b="0" lang="it-IT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8" name="Rectangle 16"/>
          <p:cNvSpPr/>
          <p:nvPr/>
        </p:nvSpPr>
        <p:spPr>
          <a:xfrm>
            <a:off x="3846600" y="942804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B681499D-8634-46DB-9940-D49E1112E053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9" name="Text Box 1"/>
          <p:cNvSpPr/>
          <p:nvPr/>
        </p:nvSpPr>
        <p:spPr>
          <a:xfrm>
            <a:off x="3846600" y="9428040"/>
            <a:ext cx="2943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565800C7-1BDE-4653-98D4-D509B22D3243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995400" y="754200"/>
            <a:ext cx="4798800" cy="371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E43A-12C5-493D-AC79-CAA4F7D79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358B-8657-49BB-9DD7-0D38D101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2277-D108-4282-98B5-181E78F96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2B83-C9A2-454D-A956-DEF5D4E17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9DAC-8105-4A34-B2BD-0A9B74D9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72EC-934E-4BB7-B4AD-9229D80C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C9C8-3362-4B34-91FA-1F8C8CBC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436C-7CFC-4B96-96A6-4D4E9844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8817-B764-462B-BA33-D3442DCE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9FD5-FB8D-491E-BC72-A065526B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CBB8-A9C8-4CE5-85D6-5FEE4813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CFF9-11D9-4C54-A454-7EB5A443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0571-4DAD-4D4D-9693-B8700F5CFD0F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4870-0D0A-477C-A4F5-3C7F357E7A2C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9" name="Text Box 1"/>
          <p:cNvSpPr/>
          <p:nvPr/>
        </p:nvSpPr>
        <p:spPr>
          <a:xfrm>
            <a:off x="457200" y="272880"/>
            <a:ext cx="822024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Progetto Screening LILT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457200" y="3933720"/>
            <a:ext cx="8220240" cy="23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  <a:p>
            <a:pPr algn="ctr">
              <a:lnSpc>
                <a:spcPct val="87000"/>
              </a:lnSpc>
              <a:spcAft>
                <a:spcPts val="1287"/>
              </a:spcAft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“</a:t>
            </a:r>
            <a:r>
              <a:rPr b="1" lang="it-IT" sz="24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Si scrive screening, si legge prevenzione”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87000"/>
              </a:lnSpc>
              <a:spcAft>
                <a:spcPts val="1287"/>
              </a:spcAft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2340000" y="2852640"/>
            <a:ext cx="4165560" cy="1251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3851280" y="1557360"/>
            <a:ext cx="1822320" cy="1071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6659640" y="1413000"/>
            <a:ext cx="1800000" cy="1431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logo%20regione%20rgb_"/>
          <p:cNvPicPr/>
          <p:nvPr/>
        </p:nvPicPr>
        <p:blipFill>
          <a:blip r:embed="rId4"/>
          <a:stretch/>
        </p:blipFill>
        <p:spPr>
          <a:xfrm>
            <a:off x="971640" y="1700280"/>
            <a:ext cx="1584360" cy="7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EF0F-8549-40FA-801D-972311614372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Verdana"/>
              </a:rPr>
              <a:t>Dati di partenz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6842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3399"/>
                </a:solidFill>
                <a:uFillTx/>
                <a:latin typeface="Verdana"/>
              </a:rPr>
              <a:t>Screening mammografico</a:t>
            </a:r>
            <a:r>
              <a:rPr b="0" lang="it-IT" sz="24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(donne 50-69 anni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900000" y="1916280"/>
            <a:ext cx="8064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 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Estensione </a:t>
            </a:r>
            <a:r>
              <a:rPr b="0" lang="it-IT" sz="2000" spc="-1" strike="noStrike">
                <a:solidFill>
                  <a:srgbClr val="003399"/>
                </a:solidFill>
                <a:latin typeface="Wingdings"/>
                <a:ea typeface="Wingdings"/>
              </a:rPr>
              <a:t>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93 % (97.500 donne)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 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Partecipazione (adesione all’invito) </a:t>
            </a:r>
            <a:r>
              <a:rPr b="0" lang="it-IT" sz="2000" spc="-1" strike="noStrike">
                <a:solidFill>
                  <a:srgbClr val="003399"/>
                </a:solidFill>
                <a:latin typeface="Wingdings"/>
                <a:ea typeface="Wingdings"/>
              </a:rPr>
              <a:t>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65 %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3816360" cy="2852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"/>
          <p:cNvPicPr/>
          <p:nvPr/>
        </p:nvPicPr>
        <p:blipFill>
          <a:blip r:embed="rId2"/>
          <a:stretch/>
        </p:blipFill>
        <p:spPr>
          <a:xfrm>
            <a:off x="4572000" y="2708280"/>
            <a:ext cx="350676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egnaposto numero diapositiva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93AA-E117-4E08-8270-AA70D3C13FBC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604000" cy="504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4032360" cy="334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"/>
          <p:cNvPicPr/>
          <p:nvPr/>
        </p:nvPicPr>
        <p:blipFill>
          <a:blip r:embed="rId3"/>
          <a:stretch/>
        </p:blipFill>
        <p:spPr>
          <a:xfrm>
            <a:off x="4427640" y="2349360"/>
            <a:ext cx="4039920" cy="36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3144-6B40-4958-AE56-1338EE29EED2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Verdana"/>
              </a:rPr>
              <a:t>Dati di partenz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3399"/>
                </a:solidFill>
                <a:uFillTx/>
                <a:latin typeface="Verdana"/>
              </a:rPr>
              <a:t>Screening citologico</a:t>
            </a:r>
            <a:r>
              <a:rPr b="0" lang="it-IT" sz="24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(donne 25-64 anni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900000" y="1844640"/>
            <a:ext cx="80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Estensione </a:t>
            </a:r>
            <a:r>
              <a:rPr b="0" lang="it-IT" sz="2000" spc="-1" strike="noStrike">
                <a:solidFill>
                  <a:srgbClr val="003399"/>
                </a:solidFill>
                <a:latin typeface="Wingdings"/>
                <a:ea typeface="Wingdings"/>
              </a:rPr>
              <a:t>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94 % (192.000 donne)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Partecipazione (adesione all’invito) </a:t>
            </a:r>
            <a:r>
              <a:rPr b="0" lang="it-IT" sz="2000" spc="-1" strike="noStrike">
                <a:solidFill>
                  <a:srgbClr val="003399"/>
                </a:solidFill>
                <a:latin typeface="Wingdings"/>
                <a:ea typeface="Wingdings"/>
              </a:rPr>
              <a:t>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56 %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tretch/>
        </p:blipFill>
        <p:spPr>
          <a:xfrm>
            <a:off x="539640" y="3357720"/>
            <a:ext cx="3686400" cy="2438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/>
          <p:cNvPicPr/>
          <p:nvPr/>
        </p:nvPicPr>
        <p:blipFill>
          <a:blip r:embed="rId2"/>
          <a:stretch/>
        </p:blipFill>
        <p:spPr>
          <a:xfrm>
            <a:off x="4859280" y="3357720"/>
            <a:ext cx="356256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egnaposto numero diapositiva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E069-1221-4A86-B2D6-C9C1FBAB50C7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345440" cy="501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4248000" cy="338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"/>
          <p:cNvPicPr/>
          <p:nvPr/>
        </p:nvPicPr>
        <p:blipFill>
          <a:blip r:embed="rId3"/>
          <a:stretch/>
        </p:blipFill>
        <p:spPr>
          <a:xfrm>
            <a:off x="4772160" y="3429000"/>
            <a:ext cx="37908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8998-257F-4A35-A03A-29676CB2CF91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Verdana"/>
              </a:rPr>
              <a:t>Dati di partenz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6842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3399"/>
                </a:solidFill>
                <a:uFillTx/>
                <a:latin typeface="Verdana"/>
              </a:rPr>
              <a:t>Screening colorettale 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(popolazione 50-74 anni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900000" y="1844640"/>
            <a:ext cx="80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 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Estensione </a:t>
            </a:r>
            <a:r>
              <a:rPr b="0" lang="it-IT" sz="2000" spc="-1" strike="noStrike">
                <a:solidFill>
                  <a:srgbClr val="003399"/>
                </a:solidFill>
                <a:latin typeface="Wingdings"/>
                <a:ea typeface="Wingdings"/>
              </a:rPr>
              <a:t>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90 % (254.000 persone)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 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Partecipazione (adesione all’invito) </a:t>
            </a:r>
            <a:r>
              <a:rPr b="0" lang="it-IT" sz="2000" spc="-1" strike="noStrike">
                <a:solidFill>
                  <a:srgbClr val="003399"/>
                </a:solidFill>
                <a:latin typeface="Wingdings"/>
                <a:ea typeface="Wingdings"/>
              </a:rPr>
              <a:t>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44 %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107" name="Picture 12" descr=""/>
          <p:cNvPicPr/>
          <p:nvPr/>
        </p:nvPicPr>
        <p:blipFill>
          <a:blip r:embed="rId1"/>
          <a:stretch/>
        </p:blipFill>
        <p:spPr>
          <a:xfrm>
            <a:off x="2195640" y="3284640"/>
            <a:ext cx="453528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egnaposto numero diapositiva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D695-FE3B-4656-831D-FA1BDAFC5DB2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24720" cy="792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4103640" cy="3600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"/>
          <p:cNvPicPr/>
          <p:nvPr/>
        </p:nvPicPr>
        <p:blipFill>
          <a:blip r:embed="rId3"/>
          <a:stretch/>
        </p:blipFill>
        <p:spPr>
          <a:xfrm>
            <a:off x="4500720" y="2781360"/>
            <a:ext cx="392112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2682-4B86-42F2-B992-7E77F003725B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6" name="Text Box 1"/>
          <p:cNvSpPr/>
          <p:nvPr/>
        </p:nvSpPr>
        <p:spPr>
          <a:xfrm>
            <a:off x="457200" y="272880"/>
            <a:ext cx="8224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Partner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1258920" y="1628640"/>
            <a:ext cx="6769080" cy="44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78000" indent="-28260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Osservatorio Nazionale Screening, 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Gruppo Italiano Screening Mammografico 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Gruppo Oncologico Meridionale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Società Italiana Senologia 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Associazione Italiana Oncologia Medica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Associazione Italiana Radiologia Oncologica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Società Italiana Medici Generali 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Europa Donna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Osservatorio Nazionale sulla Salute della Donna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......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F291-2C79-4FE6-879F-1BE647FC3288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57200" y="272880"/>
            <a:ext cx="822312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Finalità ed obiettivi del progetto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468360" y="1916280"/>
            <a:ext cx="822312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78000" indent="-282600">
              <a:lnSpc>
                <a:spcPct val="94000"/>
              </a:lnSpc>
              <a:spcAft>
                <a:spcPts val="1287"/>
              </a:spcAft>
              <a:tabLst>
                <a:tab algn="l" pos="0"/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Garantire a tutti i cittadini accesso informato, partecipazione e qualità nei programmi di screening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68240" indent="-255600">
              <a:lnSpc>
                <a:spcPct val="94000"/>
              </a:lnSpc>
              <a:spcAft>
                <a:spcPts val="10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creare un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modello integrato 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per la fruizione di percorsi </a:t>
            </a:r>
            <a:r>
              <a:rPr b="0" lang="it-IT" sz="2000" spc="-1" strike="noStrike" u="sng">
                <a:solidFill>
                  <a:srgbClr val="003399"/>
                </a:solidFill>
                <a:uFillTx/>
                <a:latin typeface="Verdana"/>
                <a:ea typeface="ＭＳ Ｐゴシック"/>
              </a:rPr>
              <a:t>informativi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 riguardanti la prevenzione oncologica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68240" indent="-255600">
              <a:lnSpc>
                <a:spcPct val="94000"/>
              </a:lnSpc>
              <a:spcAft>
                <a:spcPts val="10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monitorarne i processi di informazione e valutarne gli esiti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68240" indent="-255600">
              <a:lnSpc>
                <a:spcPct val="94000"/>
              </a:lnSpc>
              <a:spcAft>
                <a:spcPts val="10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diffondere strumenti per contribuire al miglioramento dell'adesione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94000"/>
              </a:lnSpc>
              <a:spcAft>
                <a:spcPts val="1037"/>
              </a:spcAft>
              <a:tabLst>
                <a:tab algn="l" pos="0"/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Usare la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buona pratica della campagna nazionale del 2006,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e sperimentata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nel 2008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per proporre Campagne Informative Regionali personalizzandole in base alle specifiche esigenze ed ai target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 algn="ctr">
              <a:lnSpc>
                <a:spcPct val="87000"/>
              </a:lnSpc>
              <a:spcAft>
                <a:spcPts val="1037"/>
              </a:spcAft>
              <a:tabLst>
                <a:tab algn="l" pos="0"/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CD2C-77A5-4D62-9024-2788AE1572B3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2" name="Text Box 1"/>
          <p:cNvSpPr/>
          <p:nvPr/>
        </p:nvSpPr>
        <p:spPr>
          <a:xfrm>
            <a:off x="457200" y="314280"/>
            <a:ext cx="822168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I passi del progetto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457200" y="1604880"/>
            <a:ext cx="8221680" cy="48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78000" indent="-282600">
              <a:lnSpc>
                <a:spcPct val="87000"/>
              </a:lnSpc>
              <a:spcAft>
                <a:spcPts val="1287"/>
              </a:spcAft>
              <a:tabLst>
                <a:tab algn="l" pos="0"/>
                <a:tab algn="l" pos="379440"/>
                <a:tab algn="l" pos="784080"/>
                <a:tab algn="l" pos="1192320"/>
                <a:tab algn="l" pos="1600200"/>
                <a:tab algn="l" pos="2006640"/>
                <a:tab algn="l" pos="2414520"/>
                <a:tab algn="l" pos="2822400"/>
                <a:tab algn="l" pos="3230640"/>
                <a:tab algn="l" pos="3637080"/>
                <a:tab algn="l" pos="4044960"/>
                <a:tab algn="l" pos="4452840"/>
                <a:tab algn="l" pos="4859280"/>
                <a:tab algn="l" pos="5267160"/>
                <a:tab algn="l" pos="5675400"/>
                <a:tab algn="l" pos="6083280"/>
                <a:tab algn="l" pos="6489720"/>
                <a:tab algn="l" pos="6897600"/>
                <a:tab algn="l" pos="7305840"/>
                <a:tab algn="l" pos="7711920"/>
                <a:tab algn="l" pos="8120160"/>
                <a:tab algn="l" pos="852804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OBIETTIVO 1.1: Creare Cabine di Regia regionali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tabLst>
                <a:tab algn="l" pos="0"/>
                <a:tab algn="l" pos="379440"/>
                <a:tab algn="l" pos="784080"/>
                <a:tab algn="l" pos="1192320"/>
                <a:tab algn="l" pos="1600200"/>
                <a:tab algn="l" pos="2006640"/>
                <a:tab algn="l" pos="2414520"/>
                <a:tab algn="l" pos="2822400"/>
                <a:tab algn="l" pos="3230640"/>
                <a:tab algn="l" pos="3637080"/>
                <a:tab algn="l" pos="4044960"/>
                <a:tab algn="l" pos="4452840"/>
                <a:tab algn="l" pos="4859280"/>
                <a:tab algn="l" pos="5267160"/>
                <a:tab algn="l" pos="5675400"/>
                <a:tab algn="l" pos="6083280"/>
                <a:tab algn="l" pos="6489720"/>
                <a:tab algn="l" pos="6897600"/>
                <a:tab algn="l" pos="7305840"/>
                <a:tab algn="l" pos="7711920"/>
                <a:tab algn="l" pos="8120160"/>
                <a:tab algn="l" pos="852804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tabLst>
                <a:tab algn="l" pos="0"/>
                <a:tab algn="l" pos="379440"/>
                <a:tab algn="l" pos="784080"/>
                <a:tab algn="l" pos="1192320"/>
                <a:tab algn="l" pos="1600200"/>
                <a:tab algn="l" pos="2006640"/>
                <a:tab algn="l" pos="2414520"/>
                <a:tab algn="l" pos="2822400"/>
                <a:tab algn="l" pos="3230640"/>
                <a:tab algn="l" pos="3637080"/>
                <a:tab algn="l" pos="4044960"/>
                <a:tab algn="l" pos="4452840"/>
                <a:tab algn="l" pos="4859280"/>
                <a:tab algn="l" pos="5267160"/>
                <a:tab algn="l" pos="5675400"/>
                <a:tab algn="l" pos="6083280"/>
                <a:tab algn="l" pos="6489720"/>
                <a:tab algn="l" pos="6897600"/>
                <a:tab algn="l" pos="7305840"/>
                <a:tab algn="l" pos="7711920"/>
                <a:tab algn="l" pos="8120160"/>
                <a:tab algn="l" pos="852804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100000"/>
              </a:lnSpc>
              <a:tabLst>
                <a:tab algn="l" pos="0"/>
                <a:tab algn="l" pos="379440"/>
                <a:tab algn="l" pos="784080"/>
                <a:tab algn="l" pos="1192320"/>
                <a:tab algn="l" pos="1600200"/>
                <a:tab algn="l" pos="2006640"/>
                <a:tab algn="l" pos="2414520"/>
                <a:tab algn="l" pos="2822400"/>
                <a:tab algn="l" pos="3230640"/>
                <a:tab algn="l" pos="3637080"/>
                <a:tab algn="l" pos="4044960"/>
                <a:tab algn="l" pos="4452840"/>
                <a:tab algn="l" pos="4859280"/>
                <a:tab algn="l" pos="5267160"/>
                <a:tab algn="l" pos="5675400"/>
                <a:tab algn="l" pos="6083280"/>
                <a:tab algn="l" pos="6489720"/>
                <a:tab algn="l" pos="6897600"/>
                <a:tab algn="l" pos="7305840"/>
                <a:tab algn="l" pos="7711920"/>
                <a:tab algn="l" pos="8120160"/>
                <a:tab algn="l" pos="852804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OBIETTIVO 2.1: Predisporre campagne informative  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regionali per garantire la massima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copertura del target individuato e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promuovere l’importanza della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comunicazione nella prevenzione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oncologica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100000"/>
              </a:lnSpc>
              <a:tabLst>
                <a:tab algn="l" pos="0"/>
                <a:tab algn="l" pos="379440"/>
                <a:tab algn="l" pos="784080"/>
                <a:tab algn="l" pos="1192320"/>
                <a:tab algn="l" pos="1600200"/>
                <a:tab algn="l" pos="2006640"/>
                <a:tab algn="l" pos="2414520"/>
                <a:tab algn="l" pos="2822400"/>
                <a:tab algn="l" pos="3230640"/>
                <a:tab algn="l" pos="3637080"/>
                <a:tab algn="l" pos="4044960"/>
                <a:tab algn="l" pos="4452840"/>
                <a:tab algn="l" pos="4859280"/>
                <a:tab algn="l" pos="5267160"/>
                <a:tab algn="l" pos="5675400"/>
                <a:tab algn="l" pos="6083280"/>
                <a:tab algn="l" pos="6489720"/>
                <a:tab algn="l" pos="6897600"/>
                <a:tab algn="l" pos="7305840"/>
                <a:tab algn="l" pos="7711920"/>
                <a:tab algn="l" pos="8120160"/>
                <a:tab algn="l" pos="852804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100000"/>
              </a:lnSpc>
              <a:tabLst>
                <a:tab algn="l" pos="0"/>
                <a:tab algn="l" pos="379440"/>
                <a:tab algn="l" pos="784080"/>
                <a:tab algn="l" pos="1192320"/>
                <a:tab algn="l" pos="1600200"/>
                <a:tab algn="l" pos="2006640"/>
                <a:tab algn="l" pos="2414520"/>
                <a:tab algn="l" pos="2822400"/>
                <a:tab algn="l" pos="3230640"/>
                <a:tab algn="l" pos="3637080"/>
                <a:tab algn="l" pos="4044960"/>
                <a:tab algn="l" pos="4452840"/>
                <a:tab algn="l" pos="4859280"/>
                <a:tab algn="l" pos="5267160"/>
                <a:tab algn="l" pos="5675400"/>
                <a:tab algn="l" pos="6083280"/>
                <a:tab algn="l" pos="6489720"/>
                <a:tab algn="l" pos="6897600"/>
                <a:tab algn="l" pos="7305840"/>
                <a:tab algn="l" pos="7711920"/>
                <a:tab algn="l" pos="8120160"/>
                <a:tab algn="l" pos="852804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87000"/>
              </a:lnSpc>
              <a:spcAft>
                <a:spcPts val="1287"/>
              </a:spcAft>
              <a:tabLst>
                <a:tab algn="l" pos="0"/>
                <a:tab algn="l" pos="379440"/>
                <a:tab algn="l" pos="784080"/>
                <a:tab algn="l" pos="1192320"/>
                <a:tab algn="l" pos="1600200"/>
                <a:tab algn="l" pos="2006640"/>
                <a:tab algn="l" pos="2414520"/>
                <a:tab algn="l" pos="2822400"/>
                <a:tab algn="l" pos="3230640"/>
                <a:tab algn="l" pos="3637080"/>
                <a:tab algn="l" pos="4044960"/>
                <a:tab algn="l" pos="4452840"/>
                <a:tab algn="l" pos="4859280"/>
                <a:tab algn="l" pos="5267160"/>
                <a:tab algn="l" pos="5675400"/>
                <a:tab algn="l" pos="6083280"/>
                <a:tab algn="l" pos="6489720"/>
                <a:tab algn="l" pos="6897600"/>
                <a:tab algn="l" pos="7305840"/>
                <a:tab algn="l" pos="7711920"/>
                <a:tab algn="l" pos="8120160"/>
                <a:tab algn="l" pos="852804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OBIETTIVO 2.2: Diffondere i risultati attraverso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l’organizzazione di convegni regionali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87000"/>
              </a:lnSpc>
              <a:spcAft>
                <a:spcPts val="1287"/>
              </a:spcAft>
              <a:tabLst>
                <a:tab algn="l" pos="0"/>
                <a:tab algn="l" pos="379440"/>
                <a:tab algn="l" pos="784080"/>
                <a:tab algn="l" pos="1192320"/>
                <a:tab algn="l" pos="1600200"/>
                <a:tab algn="l" pos="2006640"/>
                <a:tab algn="l" pos="2414520"/>
                <a:tab algn="l" pos="2822400"/>
                <a:tab algn="l" pos="3230640"/>
                <a:tab algn="l" pos="3637080"/>
                <a:tab algn="l" pos="4044960"/>
                <a:tab algn="l" pos="4452840"/>
                <a:tab algn="l" pos="4859280"/>
                <a:tab algn="l" pos="5267160"/>
                <a:tab algn="l" pos="5675400"/>
                <a:tab algn="l" pos="6083280"/>
                <a:tab algn="l" pos="6489720"/>
                <a:tab algn="l" pos="6897600"/>
                <a:tab algn="l" pos="7305840"/>
                <a:tab algn="l" pos="7711920"/>
                <a:tab algn="l" pos="8120160"/>
                <a:tab algn="l" pos="852804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4175-469D-4180-81A8-C209C3E6CFD4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PIANO NAZIONALE DELLA PREVENZIONE</a:t>
            </a:r>
            <a:br>
              <a:rPr sz="2000"/>
            </a:b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2010 – 2012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4. </a:t>
            </a:r>
            <a:r>
              <a:rPr b="1" lang="it-IT" sz="2000" spc="-1" strike="noStrike" u="sng">
                <a:solidFill>
                  <a:srgbClr val="003399"/>
                </a:solidFill>
                <a:uFillTx/>
                <a:latin typeface="Verdana"/>
              </a:rPr>
              <a:t>La prevenzione nella popolazione a rischio</a:t>
            </a:r>
            <a:br>
              <a:rPr sz="2000"/>
            </a:br>
            <a:r>
              <a:rPr b="1" lang="it-IT" sz="2000" spc="-1" strike="noStrike" u="sng">
                <a:solidFill>
                  <a:srgbClr val="003399"/>
                </a:solidFill>
                <a:uFillTx/>
                <a:latin typeface="Verdana"/>
              </a:rPr>
              <a:t>4.2 I tumori e gli screen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</a:rPr>
              <a:t>OBIETTIVI GENERALI DI SALUTE</a:t>
            </a:r>
            <a:r>
              <a:rPr b="0" lang="it-IT" sz="1800" spc="-1" strike="noStrike">
                <a:solidFill>
                  <a:srgbClr val="00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</a:rPr>
              <a:t>Riduzione della mortalità per carcinoma della mammella,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</a:rPr>
              <a:t>della cervice uterina e del carcinoma del colon-retto</a:t>
            </a:r>
            <a:r>
              <a:rPr b="0" lang="it-IT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Wingdings"/>
                <a:ea typeface="Wingdings"/>
              </a:rPr>
              <a:t>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LINEE DI INTERVENTO</a:t>
            </a:r>
            <a:r>
              <a:rPr b="0" lang="it-IT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Verdana"/>
              </a:rPr>
              <a:t>………</a:t>
            </a:r>
            <a:r>
              <a:rPr b="0" lang="it-IT" sz="1800" spc="-1" strike="noStrike">
                <a:solidFill>
                  <a:srgbClr val="003399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Estensione dei programmi di screening </a:t>
            </a:r>
            <a:r>
              <a:rPr b="1" lang="it-IT" sz="2000" spc="-1" strike="noStrike" u="sng">
                <a:solidFill>
                  <a:srgbClr val="003399"/>
                </a:solidFill>
                <a:uFillTx/>
                <a:latin typeface="Verdana"/>
              </a:rPr>
              <a:t>(per lo screening colorettale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Promozione del coinvolgimento dei soggetti fragili che non aderiscono ai programmi di screening oncologici </a:t>
            </a:r>
            <a:r>
              <a:rPr b="1" lang="it-IT" sz="2000" spc="-1" strike="noStrike" u="sng">
                <a:solidFill>
                  <a:srgbClr val="003399"/>
                </a:solidFill>
                <a:uFillTx/>
                <a:latin typeface="Verdana"/>
              </a:rPr>
              <a:t>(per lo screening mammografico e citologico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5629-FF56-4C38-8FEE-EC1393304E48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50920" y="198900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Obiettivo 1.1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it-IT" sz="2000" spc="-1" strike="noStrike">
                <a:solidFill>
                  <a:srgbClr val="003399"/>
                </a:solidFill>
                <a:latin typeface="Wingdings"/>
                <a:ea typeface="Wingdings"/>
              </a:rPr>
              <a:t>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creazione della cabina di regia regionale attravers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Individuazione dei portatori di interess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Definizione del ruolo della cabina di regi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Incontro con i portatori di interesse per la 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   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costituzione della cabina di regi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Verdana"/>
              </a:rPr>
              <a:t>Stato di avanzamento del progetto in Umbria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003399"/>
                </a:solidFill>
                <a:latin typeface="Verdana"/>
              </a:rPr>
              <a:t>Azioni avviat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F2BC-9F0E-4D2F-AA95-6E5C79D2CAC8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115640" y="2205000"/>
            <a:ext cx="6769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Tavolo regionale coordinamento screen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Responsabili comunicazione Aziende US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Associazioni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Farmaci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Medici di Medicina Genera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Rete oncologica regiona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Mediatori culturali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Verdana"/>
              </a:rPr>
              <a:t>Individuazione dei portatori di interesse </a:t>
            </a:r>
            <a:br>
              <a:rPr sz="2400"/>
            </a:br>
            <a:r>
              <a:rPr b="1" lang="it-IT" sz="2400" spc="-1" strike="noStrike">
                <a:solidFill>
                  <a:srgbClr val="003399"/>
                </a:solidFill>
                <a:latin typeface="Verdana"/>
              </a:rPr>
              <a:t>da coinvolger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AEB3-0BC1-4A68-83C8-4FC0F2485EB6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Favorire e migliorare il processo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di comunicazione inter-istituzionale per</a:t>
            </a:r>
            <a:r>
              <a:rPr b="1" lang="it-IT" sz="2800" spc="-1" strike="noStrike">
                <a:solidFill>
                  <a:srgbClr val="0033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Wingdings"/>
                <a:ea typeface="Wingdings"/>
              </a:rPr>
              <a:t>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ridurre la quota di inappropriatezza e disequità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Wingdings"/>
                <a:ea typeface="Wingdings"/>
              </a:rPr>
              <a:t></a:t>
            </a:r>
            <a:r>
              <a:rPr b="1" lang="it-IT" sz="24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aumentare la partecipazione ai programmi di screening, soprattutto nelle fasce considerate deboli (immigrati, anziani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Verdana"/>
              </a:rPr>
              <a:t>Ruolo della cabina di regia regional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egnaposto numero diapositiva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68A1-1B4D-4373-83BE-D72BA238BAF5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Verdana"/>
              </a:rPr>
              <a:t>Programmi di screening attivi in Umbri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40384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Screening mammografico e citologic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dal periodo 1997-2000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Screening coloretta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dal 2° semestre 2006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284720" y="1557360"/>
            <a:ext cx="433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80" name="Object 1024"/>
          <p:cNvGraphicFramePr/>
          <p:nvPr/>
        </p:nvGraphicFramePr>
        <p:xfrm>
          <a:off x="4859280" y="1773360"/>
          <a:ext cx="352764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1773360"/>
                    <a:ext cx="352764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Text Box 7"/>
          <p:cNvSpPr/>
          <p:nvPr/>
        </p:nvSpPr>
        <p:spPr>
          <a:xfrm>
            <a:off x="1403280" y="126828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4 Aziende USL e 2 Aziende Ospedaliere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0:49:14Z</dcterms:created>
  <dc:creator>Regione dell'Umbria</dc:creator>
  <dc:description/>
  <dc:language>en-US</dc:language>
  <cp:lastModifiedBy>giuseppinamanuali</cp:lastModifiedBy>
  <dcterms:modified xsi:type="dcterms:W3CDTF">2011-07-05T14:13:15Z</dcterms:modified>
  <cp:revision>50</cp:revision>
  <dc:subject/>
  <dc:title>Incidenti domestici</dc:title>
</cp:coreProperties>
</file>